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F11-54BF-41F4-9D89-1570EEF6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F7B-F8AF-494D-B452-6E2CE20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14C-1506-4BF2-B079-6E50B453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0D5-DEA5-4DE9-873F-6368F10E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675-C415-4D7C-8742-91D331C6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268-280F-4E40-AF5D-06186DA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20F-DA47-40D3-84B8-F2F9663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B2C-1C8F-4A32-9FEE-38A5782C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B2B-631E-4E90-A851-8D70EDD6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791-E368-4328-AE84-6E549A4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871-2D70-437A-957B-67C12F1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520-F12A-41E9-AA42-9C9DC4D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4F2-8E57-4CDC-9B07-FDC38C1B9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xal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7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lc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4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ilver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g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pochlo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yan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H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ulf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umin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V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4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t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cet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t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balt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inc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rse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ron(I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Fe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e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od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r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ermanga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lo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Greg Wheeler</dc:creator>
  <dc:description/>
  <dc:language>en-US</dc:language>
  <cp:lastModifiedBy>Megan Gil</cp:lastModifiedBy>
  <dcterms:modified xsi:type="dcterms:W3CDTF">2008-11-23T23:00:26Z</dcterms:modified>
  <cp:revision>5</cp:revision>
  <dc:subject/>
  <dc:title>lithium oxide</dc:title>
</cp:coreProperties>
</file>